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29546"/>
        <c:axId val="85645487"/>
      </c:barChart>
      <c:catAx>
        <c:axId val="67529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5487"/>
        <c:crosses val="autoZero"/>
        <c:auto val="1"/>
        <c:lblAlgn val="ctr"/>
        <c:lblOffset val="100"/>
        <c:noMultiLvlLbl val="0"/>
      </c:catAx>
      <c:valAx>
        <c:axId val="85645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29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E31-2490-44D7-92B0-B214AFB1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DA6-B4C3-4A81-AB13-3F52585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E55-CB7C-4E7A-9415-F71DEF1E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256-86DA-4B85-B872-5E10EAE6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8F2-73F4-425E-AAAA-9FA850D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F2A-363F-42DB-A70E-71D97C5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093-333C-4418-9397-B7A01CA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545-1299-4F2E-AB1D-4B4DE4D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696-F695-448B-8D34-075CF7D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01A-C5B3-46F2-ACB2-2F83D93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515-3592-4E7E-8CCD-B48D7F8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EA5-F9D9-4C4D-947A-0921B9C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3F9E6-E87A-462E-A558-10A4E5479E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